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979-4FC2-4251-95F6-857C549E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6B2-E5C9-40F0-BF61-1CB61BF6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E9A-C700-48FB-97FA-2653010D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693-0617-46B5-9B79-0657976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31D-E37F-4802-ABB5-5806620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799-583D-46CA-9BA2-0A7F0DA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FF0-EC8D-4905-918F-51D9A8DE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0F4-750C-4AAB-BD1A-F3CDD2DE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433-59D9-41FE-A421-B186F57D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4CF-DF11-4496-8009-90A6AB5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F6-7725-407F-B793-F935D623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4F0-D077-4F3F-B42E-975D609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E148E-9A87-41BC-83EF-1A71D61CE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47b8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FFECTS OF NUCLE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WER POI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ON WATER SUPP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04036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TO KNOW I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S RADIOACTVE WAS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tists mesu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radioactive w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oxygen diss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oto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kipedia (Pages 1-4-5-6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madrid (Page 3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outard (Page 6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ravelpod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ity of Bron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NIER Capu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CHON Chl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REAU Re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oi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to know if water has radioactive was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AR POWER POI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point represents a nuclear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51246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fr-FR" sz="26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2001 : Low « Polluter, Paying 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ter many debates, the low was created for people wh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llute water ; it is a 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Farmers who use fertilizer pay this tax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22680" y="468000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but nuclear power points and every nuclear infrastructure, that re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dioactive waste, don't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1960" y="4859280"/>
            <a:ext cx="3397320" cy="234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940360" y="539640"/>
            <a:ext cx="35766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so they use to reject too much waste without paying anyth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in reprocessing point of la Hague, wastes are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English channel or in air. And because of these rejects,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e.Helen is poll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0000" y="4859280"/>
            <a:ext cx="4137120" cy="251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203040"/>
            <a:ext cx="3780000" cy="2497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oints and reprocessing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e not the only things which reject radioactive wastes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opitals, militar camps do but simple and cheap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ld stop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se don't pay the tax to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2160720"/>
            <a:ext cx="1619280" cy="2879640"/>
          </a:xfrm>
          <a:prstGeom prst="triangle">
            <a:avLst>
              <a:gd name="adj" fmla="val 500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9640" y="5040360"/>
            <a:ext cx="2773440" cy="234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60720" y="411120"/>
            <a:ext cx="352260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sunami is a problem when nuclear power points are too proach from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m the see come into land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t takes all wastes it find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cliding radioactive wast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bring them back in the oc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n you have water problems, because nuclear power points need so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adioactive water i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jected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in river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oints make earthquake, that damage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